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D4D-292D-46B3-95B3-1C64F44C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F750-D726-4873-944F-0467CDB5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F751-5C04-4811-BE86-8410BD896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A12-F248-4EBF-847E-6D99B9C6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18C-9101-41E4-AC2E-66185A39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C288-4EAD-485D-A167-2CB4D146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1C9-6B27-47A3-AD43-324FA6F4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CD7-89AD-4C68-B494-02784C86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4F6-833B-463C-89B2-0BB6C76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9FD-D9F1-4DE1-B1FE-686578F7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F8D-A5B1-4C30-91BF-2EC3E043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200-E97E-4041-AE87-D63B658B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856-CF15-4405-ACB0-18947A4B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68D-3FB2-4F0E-A516-5069CB0D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BD3-DEF2-4E3E-A4E4-923B458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2EF-C65E-4B65-B95B-C832CE3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FDF-51FA-44BF-91A1-E77D1AE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6A4-42A8-481C-950D-A24A6535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08E-BE3E-4125-A03B-459A209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99A-FE89-4ADA-A66F-478E60138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43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Vietnam War</a:t>
            </a:r>
            <a:br>
              <a:rPr sz="44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merican Popular Opin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62-197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162560" cy="35812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id the American Public lose faith in the Vietnam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were some major events that illustrate the divide in the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ther REALLY Bad things that were happ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y Lai Mass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.S. invaded Cambod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70, Nix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 Chi Minh Tr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how China &amp; Russia got supplies to Vietc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bodia was a free nation, but we bombe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nt State Shoot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st gone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Guard = 9 wounded, 4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 America Protest! (1962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447920" y="0"/>
            <a:ext cx="4341600" cy="6858000"/>
            <a:chOff x="1447920" y="0"/>
            <a:chExt cx="4341600" cy="685800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1447920" y="0"/>
              <a:ext cx="434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4"/>
            <p:cNvSpPr/>
            <p:nvPr/>
          </p:nvSpPr>
          <p:spPr>
            <a:xfrm>
              <a:off x="3962160" y="5562360"/>
              <a:ext cx="12949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5"/>
          <p:cNvSpPr/>
          <p:nvPr/>
        </p:nvSpPr>
        <p:spPr>
          <a:xfrm>
            <a:off x="6019920" y="1600200"/>
            <a:ext cx="2895480" cy="396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no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N.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ig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S.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373920" y="228600"/>
            <a:ext cx="2485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 Lai Mass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777960"/>
            <a:ext cx="8534160" cy="584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j0222017"/>
          <p:cNvPicPr/>
          <p:nvPr/>
        </p:nvPicPr>
        <p:blipFill>
          <a:blip r:embed="rId2"/>
          <a:stretch/>
        </p:blipFill>
        <p:spPr>
          <a:xfrm>
            <a:off x="7624800" y="533412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145680" y="152280"/>
            <a:ext cx="3042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nt State Shoo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86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8001000" cy="54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153280" cy="563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685800" y="838080"/>
            <a:ext cx="7848720" cy="555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j0222017"/>
          <p:cNvPicPr/>
          <p:nvPr/>
        </p:nvPicPr>
        <p:blipFill>
          <a:blip r:embed="rId5"/>
          <a:stretch/>
        </p:blipFill>
        <p:spPr>
          <a:xfrm>
            <a:off x="8005680" y="5562720"/>
            <a:ext cx="11383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ther REALLY Bad things that were happ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68 Democratic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stors rioted = demanded future president withdraw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bby Kennedy is assassin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ntagon Papers are Published (197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,000 page doc = details America lying to us about the war and other th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 America Protest! (1962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9:00:11Z</dcterms:created>
  <dc:creator>IT Department</dc:creator>
  <dc:description/>
  <dc:language>en-US</dc:language>
  <cp:lastModifiedBy>Administrator</cp:lastModifiedBy>
  <dcterms:modified xsi:type="dcterms:W3CDTF">2013-04-09T18:26:45Z</dcterms:modified>
  <cp:revision>6</cp:revision>
  <dc:subject/>
  <dc:title>The Vietnam War Part 3: American Popular Opinion  of The War (1962-1975)</dc:title>
</cp:coreProperties>
</file>